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76A6-CB5E-4F25-9891-C5910392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BB82-74B1-42F7-AC5D-03F785CA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1515-2271-4F95-B681-0A62C8E9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D4B2-FFA8-4ED0-90EE-AFCF9B43E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04D-ED43-490C-BD61-4CC767E6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61A-67EA-41B5-9C49-9CDADE04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6D1-0AC9-4E2D-9246-7DA362E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EBD-9DCF-4E01-9948-444225BF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528-3FDB-4934-B054-2592313F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C14-8787-4563-8E14-A74BBAF5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F80-33B2-4C35-843A-FCE4043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1B9-9AD9-4C3F-856B-C5427550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133-F3E1-473D-9DF6-16EFC10E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647-2F5E-48A5-AA16-8056321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759-A0AB-4455-B36F-F170840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A5B-7853-4562-ADA7-5F92B0C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E14-0C1A-4C5A-8EE5-2C0C550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7FA3-A403-48C1-AEE5-986416A8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scream+paintings&amp;source=images&amp;cd=&amp;cad=rja&amp;uact=8&amp;ved=0CAcQjRw&amp;url=http%3A%2F%2Fwww.thelocal.no%2F20131113%2Fscream-loses-place-as-priciest-painting&amp;ei=VCg-VMvRHNPuaJrdgYAI&amp;psig=AFQjCNGb_lelYkQZES2kv5I4-ThUPvdq-A&amp;ust=1413446089777494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.uk/url?sa=i&amp;rct=j&amp;q=dali+paintings&amp;source=images&amp;cd=&amp;cad=rja&amp;uact=8&amp;ved=0CAcQjRw&amp;url=http%3A%2F%2Fartscyclopedia.com%2Fwallpapers-salvador-dali-paintings-1920-1080-art-wallpapers.html&amp;ei=0yc-VO7nMI31aPnYgrgL&amp;psig=AFQjCNEU-iYV_3PkepiQv7LeKXamwvteVQ&amp;ust=1413445954024233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2800" y="-74772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00720" y="25560"/>
            <a:ext cx="293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7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packing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oring use of symbolism in the arts and everyday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4"/>
          <p:cNvSpPr/>
          <p:nvPr/>
        </p:nvSpPr>
        <p:spPr>
          <a:xfrm>
            <a:off x="250920" y="3627360"/>
            <a:ext cx="3313080" cy="261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real Cit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der the brown fog of a winter daw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crowd flowed over London Bridge, so man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had not thought death had undone so man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ighs, short and infrequent, were exhal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d each man fixed his eyes before his fe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lowed up the hill and down King William Stree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o where Saint Mary Woolnoth kept th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ith a dead sound on the final stroke of n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Waste Land (192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9"/>
          <p:cNvSpPr/>
          <p:nvPr/>
        </p:nvSpPr>
        <p:spPr>
          <a:xfrm>
            <a:off x="4721400" y="3627360"/>
            <a:ext cx="2950920" cy="259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 agai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siring this man's gift and that man's sc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no longer strive to strive towards such things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(Why should the aged eagle stretch its wings?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hy should I mo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vanished power of the usual re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sh Wednesday (193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4416480" cy="46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179280" y="22716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ular Callout 3"/>
          <p:cNvSpPr/>
          <p:nvPr/>
        </p:nvSpPr>
        <p:spPr>
          <a:xfrm>
            <a:off x="2124000" y="227160"/>
            <a:ext cx="6432480" cy="1238040"/>
          </a:xfrm>
          <a:prstGeom prst="wedgeRoundRectCallout">
            <a:avLst>
              <a:gd name="adj1" fmla="val -67754"/>
              <a:gd name="adj2" fmla="val 3023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f course, symbols and metaphors have a life outside of the arts. We use them in our every day language to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ular Callout 4"/>
          <p:cNvSpPr/>
          <p:nvPr/>
        </p:nvSpPr>
        <p:spPr>
          <a:xfrm>
            <a:off x="900000" y="2637000"/>
            <a:ext cx="2664000" cy="3095640"/>
          </a:xfrm>
          <a:prstGeom prst="wedgeRoundRectCallout">
            <a:avLst>
              <a:gd name="adj1" fmla="val -52537"/>
              <a:gd name="adj2" fmla="val -103444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f someone were to say to y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Calibri"/>
              </a:rPr>
              <a:t>I’m all ears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ou wouldn’t expect to turn around and see them covered in ear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395280" y="907920"/>
            <a:ext cx="468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836960" y="2941560"/>
            <a:ext cx="4687920" cy="426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2232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ular Callout 5"/>
          <p:cNvSpPr/>
          <p:nvPr/>
        </p:nvSpPr>
        <p:spPr>
          <a:xfrm>
            <a:off x="681120" y="1816200"/>
            <a:ext cx="4384440" cy="4852800"/>
          </a:xfrm>
          <a:prstGeom prst="wedgeRoundRectCallout">
            <a:avLst>
              <a:gd name="adj1" fmla="val -47990"/>
              <a:gd name="adj2" fmla="val -73995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 do it with our language and of course, we do it with our body. I just waved a hand at a friend passing the window. It’s a hand, it’s at the end of my wrist. I held it up and motioned it left to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ction itself is meaningless unless the symbolism behind the action is understood. I think I may have confused my friend had I stood on one leg and with the other waved my fo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would be communicating nothing in this action other than perhaps that I am having an of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1473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5"/>
          <p:cNvSpPr/>
          <p:nvPr/>
        </p:nvSpPr>
        <p:spPr>
          <a:xfrm>
            <a:off x="1763640" y="227160"/>
            <a:ext cx="7129440" cy="1617480"/>
          </a:xfrm>
          <a:prstGeom prst="wedgeRoundRectCallout">
            <a:avLst>
              <a:gd name="adj1" fmla="val -61888"/>
              <a:gd name="adj2" fmla="val 3634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ur well-exercised use of symbols in our everyday lives will help us understand religion, precisely because it is through symbols that religious ideas express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 will explore religious symbolism in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Four Quartets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ou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-50760" y="2190600"/>
            <a:ext cx="9194760" cy="4513320"/>
          </a:xfrm>
          <a:prstGeom prst="rect">
            <a:avLst/>
          </a:prstGeom>
          <a:ln w="0">
            <a:noFill/>
          </a:ln>
        </p:spPr>
      </p:pic>
      <p:sp>
        <p:nvSpPr>
          <p:cNvPr id="132" name="Rounded Rectangular Callout 11"/>
          <p:cNvSpPr/>
          <p:nvPr/>
        </p:nvSpPr>
        <p:spPr>
          <a:xfrm>
            <a:off x="1500120" y="1465200"/>
            <a:ext cx="7284960" cy="1452600"/>
          </a:xfrm>
          <a:prstGeom prst="wedgeRoundRectCallout">
            <a:avLst>
              <a:gd name="adj1" fmla="val -57361"/>
              <a:gd name="adj2" fmla="val -70087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ask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Find your own example of symbolism – in any of the art fo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allenge a partner to identify both the symbolic elements and what the artist might be sugg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24000" y="1015920"/>
            <a:ext cx="18349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948360" y="1015920"/>
            <a:ext cx="18367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316320" y="1008000"/>
            <a:ext cx="237636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271680" y="180828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5692680" y="3573360"/>
            <a:ext cx="1763640" cy="232416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ular Callout 9"/>
          <p:cNvSpPr/>
          <p:nvPr/>
        </p:nvSpPr>
        <p:spPr>
          <a:xfrm>
            <a:off x="2158920" y="3573360"/>
            <a:ext cx="3114720" cy="3227400"/>
          </a:xfrm>
          <a:prstGeom prst="wedgeRoundRectCallout">
            <a:avLst>
              <a:gd name="adj1" fmla="val 69504"/>
              <a:gd name="adj2" fmla="val -13310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ke your post it notes and write a definition of the term symbol. Stick this under ‘definition’ on the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ain, with your post it notes, write down as many synonyms as you can for the term symbol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24000" y="1015920"/>
            <a:ext cx="18349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948360" y="1015920"/>
            <a:ext cx="18367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059280" y="1036800"/>
            <a:ext cx="3025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04000" y="2355840"/>
            <a:ext cx="24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)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) Ana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) 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)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) Pa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) My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271680" y="180828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64000" y="4275000"/>
            <a:ext cx="971640" cy="128124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ular Callout 9"/>
          <p:cNvSpPr/>
          <p:nvPr/>
        </p:nvSpPr>
        <p:spPr>
          <a:xfrm>
            <a:off x="2757600" y="4437000"/>
            <a:ext cx="2371680" cy="792360"/>
          </a:xfrm>
          <a:prstGeom prst="wedgeRoundRectCallout">
            <a:avLst>
              <a:gd name="adj1" fmla="val 69504"/>
              <a:gd name="adj2" fmla="val -13310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may have got the follow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22986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thing that represents or stands for something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7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385272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Shape 99"/>
          <p:cNvSpPr/>
          <p:nvPr/>
        </p:nvSpPr>
        <p:spPr>
          <a:xfrm>
            <a:off x="5081760" y="822240"/>
            <a:ext cx="3236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770760" y="12384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650 portrait of Pope Innocent X Diego Velázquez. 1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172360" y="5686560"/>
            <a:ext cx="971640" cy="128088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ular Callout 2"/>
          <p:cNvSpPr/>
          <p:nvPr/>
        </p:nvSpPr>
        <p:spPr>
          <a:xfrm>
            <a:off x="2689200" y="5324400"/>
            <a:ext cx="4248000" cy="984240"/>
          </a:xfrm>
          <a:prstGeom prst="wedgeRoundRectCallout">
            <a:avLst>
              <a:gd name="adj1" fmla="val 86652"/>
              <a:gd name="adj2" fmla="val 4119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, do you think, the artist is attempting to convey or say to us in this painting of the P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ular Callout 9"/>
          <p:cNvSpPr/>
          <p:nvPr/>
        </p:nvSpPr>
        <p:spPr>
          <a:xfrm>
            <a:off x="4813200" y="3068640"/>
            <a:ext cx="4248360" cy="985680"/>
          </a:xfrm>
          <a:prstGeom prst="wedgeRoundRectCallout">
            <a:avLst>
              <a:gd name="adj1" fmla="val 34291"/>
              <a:gd name="adj2" fmla="val 2406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elements of this picture are possibly symbolic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6" descr=""/>
          <p:cNvPicPr/>
          <p:nvPr/>
        </p:nvPicPr>
        <p:blipFill>
          <a:blip r:embed="rId1"/>
          <a:stretch/>
        </p:blipFill>
        <p:spPr>
          <a:xfrm>
            <a:off x="179280" y="503280"/>
            <a:ext cx="4122720" cy="5199120"/>
          </a:xfrm>
          <a:prstGeom prst="rect">
            <a:avLst/>
          </a:prstGeom>
          <a:ln w="0">
            <a:noFill/>
          </a:ln>
        </p:spPr>
      </p:pic>
      <p:sp>
        <p:nvSpPr>
          <p:cNvPr id="74" name="Shape 99"/>
          <p:cNvSpPr/>
          <p:nvPr/>
        </p:nvSpPr>
        <p:spPr>
          <a:xfrm>
            <a:off x="5081760" y="822240"/>
            <a:ext cx="3236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89280" y="49320"/>
            <a:ext cx="49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tudy after 1650 portrait of Pope Innocent X. Francis Bacon. 195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962840" y="5300640"/>
            <a:ext cx="1181160" cy="1557360"/>
          </a:xfrm>
          <a:prstGeom prst="rect">
            <a:avLst/>
          </a:prstGeom>
          <a:ln w="0">
            <a:noFill/>
          </a:ln>
        </p:spPr>
      </p:pic>
      <p:sp>
        <p:nvSpPr>
          <p:cNvPr id="77" name="Rounded Rectangular Callout 8"/>
          <p:cNvSpPr/>
          <p:nvPr/>
        </p:nvSpPr>
        <p:spPr>
          <a:xfrm>
            <a:off x="4305240" y="3054240"/>
            <a:ext cx="4248360" cy="986040"/>
          </a:xfrm>
          <a:prstGeom prst="wedgeRoundRectCallout">
            <a:avLst>
              <a:gd name="adj1" fmla="val 44250"/>
              <a:gd name="adj2" fmla="val 22538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elements of this picture are possibly symbolic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ular Callout 9"/>
          <p:cNvSpPr/>
          <p:nvPr/>
        </p:nvSpPr>
        <p:spPr>
          <a:xfrm>
            <a:off x="2689200" y="5324400"/>
            <a:ext cx="4248000" cy="984240"/>
          </a:xfrm>
          <a:prstGeom prst="wedgeRoundRectCallout">
            <a:avLst>
              <a:gd name="adj1" fmla="val 80226"/>
              <a:gd name="adj2" fmla="val 657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, do you think, the artist is attempting to convey or suggest to us in this painting of the P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6" descr=""/>
          <p:cNvPicPr/>
          <p:nvPr/>
        </p:nvPicPr>
        <p:blipFill>
          <a:blip r:embed="rId1"/>
          <a:stretch/>
        </p:blipFill>
        <p:spPr>
          <a:xfrm>
            <a:off x="468360" y="825480"/>
            <a:ext cx="4122720" cy="519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7" descr=""/>
          <p:cNvPicPr/>
          <p:nvPr/>
        </p:nvPicPr>
        <p:blipFill>
          <a:blip r:embed="rId2"/>
          <a:stretch/>
        </p:blipFill>
        <p:spPr>
          <a:xfrm>
            <a:off x="4932360" y="830160"/>
            <a:ext cx="385272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Shape 99"/>
          <p:cNvSpPr/>
          <p:nvPr/>
        </p:nvSpPr>
        <p:spPr>
          <a:xfrm>
            <a:off x="5081760" y="822240"/>
            <a:ext cx="3236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4591080" y="42372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650 portrait of Pope Innocent X Diego Velázquez. 1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99440" y="6165720"/>
            <a:ext cx="49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tudy after 1650 portrait of Pope Innocent X. Francis Bacon.. 195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8172360" y="5576760"/>
            <a:ext cx="971640" cy="128124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ular Callout 2"/>
          <p:cNvSpPr/>
          <p:nvPr/>
        </p:nvSpPr>
        <p:spPr>
          <a:xfrm>
            <a:off x="3924360" y="4869000"/>
            <a:ext cx="4078080" cy="1155600"/>
          </a:xfrm>
          <a:prstGeom prst="wedgeRoundRectCallout">
            <a:avLst>
              <a:gd name="adj1" fmla="val 62412"/>
              <a:gd name="adj2" fmla="val 59736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on’s painting is was said by one critic to be ‘an example of creative re-interpretation of the classic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95400" y="190440"/>
            <a:ext cx="971280" cy="128124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ular Callout 9"/>
          <p:cNvSpPr/>
          <p:nvPr/>
        </p:nvSpPr>
        <p:spPr>
          <a:xfrm>
            <a:off x="2187720" y="423720"/>
            <a:ext cx="2065320" cy="870120"/>
          </a:xfrm>
          <a:prstGeom prst="wedgeRoundRectCallout">
            <a:avLst>
              <a:gd name="adj1" fmla="val -124194"/>
              <a:gd name="adj2" fmla="val -73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imilarit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iffer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250920" y="3267000"/>
            <a:ext cx="2952720" cy="297036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2970360"/>
              <a:gd name="textAreaBottom" fmla="*/ 2826360 h 2970360"/>
            </a:gdLst>
            <a:ahLst/>
            <a:rect l="textAreaLeft" t="textAreaTop" r="textAreaRight" b="textAreaBottom"/>
            <a:pathLst>
              <a:path w="21600" h="21729">
                <a:moveTo>
                  <a:pt x="3600" y="0"/>
                </a:moveTo>
                <a:arcTo wR="3600" hR="3600" stAng="16200000" swAng="-5400000"/>
                <a:lnTo>
                  <a:pt x="0" y="18129"/>
                </a:lnTo>
                <a:arcTo wR="3600" hR="3600" stAng="10800000" swAng="-5400000"/>
                <a:lnTo>
                  <a:pt x="18000" y="217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4721400" y="3251160"/>
            <a:ext cx="2950920" cy="297180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2971800"/>
              <a:gd name="textAreaBottom" fmla="*/ 2827800 h 2971800"/>
            </a:gdLst>
            <a:ahLst/>
            <a:rect l="textAreaLeft" t="textAreaTop" r="textAreaRight" b="textAreaBottom"/>
            <a:pathLst>
              <a:path w="21600" h="21753">
                <a:moveTo>
                  <a:pt x="3600" y="0"/>
                </a:moveTo>
                <a:arcTo wR="3600" hR="3600" stAng="16200000" swAng="-5400000"/>
                <a:lnTo>
                  <a:pt x="0" y="18153"/>
                </a:lnTo>
                <a:arcTo wR="3600" hR="3600" stAng="10800000" swAng="-5400000"/>
                <a:lnTo>
                  <a:pt x="18000" y="217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1.gstatic.com/images?q=tbn:ANd9GcQj82ru8K55cWtmnN0pMwhus0j4kNCgxW-7QC1YNX14kzrAqZiWGg:www.thelocal.no/userdata/images/article/w468/7957f9f5ef732cb279bc9027f21c426dd04fdf4c2517d0910fac71f94e954c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280" y="4329000"/>
            <a:ext cx="2214720" cy="129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t0.gstatic.com/images?q=tbn:ANd9GcTG2bQI2nu93JAZRAkMQMtcQSWjnltiA8frqTSmftN4ghE93PV4:www.wallpapershd1080p.com/wallpaper/wp-content/uploads/2013/11/30/48656/Wallpapers-Salvador-Dali-Paintings-1920x1080-Ar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2840" y="4329000"/>
            <a:ext cx="230508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7529400" y="2068560"/>
            <a:ext cx="1285920" cy="169380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ular Callout 3"/>
          <p:cNvSpPr/>
          <p:nvPr/>
        </p:nvSpPr>
        <p:spPr>
          <a:xfrm>
            <a:off x="2238480" y="1973160"/>
            <a:ext cx="4087800" cy="1293840"/>
          </a:xfrm>
          <a:prstGeom prst="wedgeRoundRectCallout">
            <a:avLst>
              <a:gd name="adj1" fmla="val 89777"/>
              <a:gd name="adj2" fmla="val 899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t’s try this again. With this activity you get a bit of thinking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250920" y="3267000"/>
            <a:ext cx="2952720" cy="297036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2970360"/>
              <a:gd name="textAreaBottom" fmla="*/ 2826360 h 2970360"/>
            </a:gdLst>
            <a:ahLst/>
            <a:rect l="textAreaLeft" t="textAreaTop" r="textAreaRight" b="textAreaBottom"/>
            <a:pathLst>
              <a:path w="21600" h="21729">
                <a:moveTo>
                  <a:pt x="3600" y="0"/>
                </a:moveTo>
                <a:arcTo wR="3600" hR="3600" stAng="16200000" swAng="-5400000"/>
                <a:lnTo>
                  <a:pt x="0" y="18129"/>
                </a:lnTo>
                <a:arcTo wR="3600" hR="3600" stAng="10800000" swAng="-5400000"/>
                <a:lnTo>
                  <a:pt x="18000" y="217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4721400" y="3251160"/>
            <a:ext cx="2950920" cy="297180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2971800"/>
              <a:gd name="textAreaBottom" fmla="*/ 2827800 h 2971800"/>
            </a:gdLst>
            <a:ahLst/>
            <a:rect l="textAreaLeft" t="textAreaTop" r="textAreaRight" b="textAreaBottom"/>
            <a:pathLst>
              <a:path w="21600" h="21753">
                <a:moveTo>
                  <a:pt x="3600" y="0"/>
                </a:moveTo>
                <a:arcTo wR="3600" hR="3600" stAng="16200000" swAng="-5400000"/>
                <a:lnTo>
                  <a:pt x="0" y="18153"/>
                </a:lnTo>
                <a:arcTo wR="3600" hR="3600" stAng="10800000" swAng="-5400000"/>
                <a:lnTo>
                  <a:pt x="18000" y="217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t1.gstatic.com/images?q=tbn:ANd9GcQj82ru8K55cWtmnN0pMwhus0j4kNCgxW-7QC1YNX14kzrAqZiWGg:www.thelocal.no/userdata/images/article/w468/7957f9f5ef732cb279bc9027f21c426dd04fdf4c2517d0910fac71f94e954ca1.jpg"/>
          <p:cNvPicPr/>
          <p:nvPr/>
        </p:nvPicPr>
        <p:blipFill>
          <a:blip r:embed="rId1"/>
          <a:stretch/>
        </p:blipFill>
        <p:spPr>
          <a:xfrm>
            <a:off x="314280" y="4329000"/>
            <a:ext cx="2214720" cy="129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t0.gstatic.com/images?q=tbn:ANd9GcTG2bQI2nu93JAZRAkMQMtcQSWjnltiA8frqTSmftN4ghE93PV4:www.wallpapershd1080p.com/wallpaper/wp-content/uploads/2013/11/30/48656/Wallpapers-Salvador-Dali-Paintings-1920x1080-Art.jpg"/>
          <p:cNvPicPr/>
          <p:nvPr/>
        </p:nvPicPr>
        <p:blipFill>
          <a:blip r:embed="rId2"/>
          <a:stretch/>
        </p:blipFill>
        <p:spPr>
          <a:xfrm>
            <a:off x="4722840" y="4329000"/>
            <a:ext cx="2305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250920" y="3627360"/>
            <a:ext cx="3313080" cy="261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real Cit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der the brown fog of a winter daw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crowd flowed over London Bridge, so man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had not thought death had undone so man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ighs, short and infrequent, were exhal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d each man fixed his eyes before his fe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lowed up the hill and down King William Stree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o where Saint Mary Woolnoth kept th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ith a dead sound on the final stroke of n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Waste Land (192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4721400" y="3627360"/>
            <a:ext cx="2950920" cy="259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 agai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siring this man's gift and that man's sc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no longer strive to strive towards such things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(Why should the aged eagle stretch its wings?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hy should I mo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vanished power of the usual re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sh Wednesday (193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7148520" y="1182600"/>
            <a:ext cx="1744560" cy="2300400"/>
          </a:xfrm>
          <a:prstGeom prst="rect">
            <a:avLst/>
          </a:prstGeom>
          <a:ln w="0">
            <a:noFill/>
          </a:ln>
        </p:spPr>
      </p:pic>
      <p:sp>
        <p:nvSpPr>
          <p:cNvPr id="113" name="Rounded Rectangular Callout 3"/>
          <p:cNvSpPr/>
          <p:nvPr/>
        </p:nvSpPr>
        <p:spPr>
          <a:xfrm>
            <a:off x="2106720" y="1965240"/>
            <a:ext cx="4086000" cy="941400"/>
          </a:xfrm>
          <a:prstGeom prst="wedgeRoundRectCallout">
            <a:avLst>
              <a:gd name="adj1" fmla="val 88111"/>
              <a:gd name="adj2" fmla="val -5321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t’s try this again. This time with symbolism in Eliot’s po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Two: Symbolism</cp:keywords>
  <dc:language>en-US</dc:language>
  <cp:lastModifiedBy>Richard Brock</cp:lastModifiedBy>
  <cp:lastPrinted>2015-05-22T09:14:27Z</cp:lastPrinted>
  <dcterms:modified xsi:type="dcterms:W3CDTF">2015-06-09T11:11:30Z</dcterms:modified>
  <cp:revision>164</cp:revision>
  <dc:subject>Four Quartets: T.S. Eliot and Spirituality</dc:subject>
  <dc:title>Lesson 7 - Unpacking Symbols</dc:title>
</cp:coreProperties>
</file>