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370-6A50-4F75-AA91-3FE540BF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3F55-5C7C-47EA-985B-98D598870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C8C-A87B-47BB-8B12-D78CC8C8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CBC-3A6A-4D80-A7B5-A7A16F55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806-A89B-45DD-80B5-A050EFC0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CE6-D436-455B-ABBE-8C3641CB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F7E-AE87-4910-BA99-4C96CFCB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43-F5C3-4C85-89DD-8B9E0443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417-2D04-4E2A-BD2E-0AC9ABD1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3A1-5A40-433B-8D70-37A55BB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CB9-5E7E-4021-8A6C-7152E8E8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0E4-FAE7-4F0D-AB93-7547A57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179-4867-48AC-A545-B289D02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A0F-EB84-4EDB-9737-321EF85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E1C4-F04D-4EC5-BF09-20863494F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.uk/url?sa=i&amp;rct=j&amp;q=&amp;esrc=s&amp;source=images&amp;cd=&amp;cad=rja&amp;uact=8&amp;ved=0CAcQjRw&amp;url=http://vadamagazine.com/26/02/2013/opinions/the-death-of-social-interaction&amp;ei=HSzCVI3RBNDsaL_vgNAC&amp;bvm=bv.84349003,d.ZGU&amp;psig=AFQjCNGOKf_6iOppW1T8zvA4t-CXej5F6g&amp;ust=142209773957091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219640" y="189000"/>
            <a:ext cx="403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11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ffering and the Human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amine earlier poems from T. S. Eliot which comment on the theme of suffering in relation to the human condition and begin to explore this theme in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thinker"/>
          <p:cNvPicPr/>
          <p:nvPr/>
        </p:nvPicPr>
        <p:blipFill>
          <a:blip r:embed="rId1"/>
          <a:stretch/>
        </p:blipFill>
        <p:spPr>
          <a:xfrm>
            <a:off x="6804000" y="39384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11280" y="404640"/>
            <a:ext cx="5832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P4C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ad stimulus poem - Ani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ate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airs or small groups create a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ass share questions and write each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oting for an enquiry question (cannot vote for your own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qui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flections 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s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5316480" cy="353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826920" y="4173480"/>
            <a:ext cx="178776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sumo"/>
          <p:cNvPicPr/>
          <p:nvPr/>
        </p:nvPicPr>
        <p:blipFill>
          <a:blip r:embed="rId1"/>
          <a:stretch/>
        </p:blipFill>
        <p:spPr>
          <a:xfrm>
            <a:off x="3635280" y="115920"/>
            <a:ext cx="446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thinker"/>
          <p:cNvPicPr/>
          <p:nvPr/>
        </p:nvPicPr>
        <p:blipFill>
          <a:blip r:embed="rId2"/>
          <a:stretch/>
        </p:blipFill>
        <p:spPr>
          <a:xfrm>
            <a:off x="23760" y="26028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1835280" y="225360"/>
            <a:ext cx="2305080" cy="1187640"/>
          </a:xfrm>
          <a:prstGeom prst="wedgeRectCallout">
            <a:avLst>
              <a:gd name="adj1" fmla="val -76856"/>
              <a:gd name="adj2" fmla="val -24148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 of stimulus and enquiry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xplosion 2 1"/>
          <p:cNvSpPr/>
          <p:nvPr/>
        </p:nvSpPr>
        <p:spPr>
          <a:xfrm>
            <a:off x="324000" y="3284640"/>
            <a:ext cx="3960720" cy="230508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umo"/>
          <p:cNvPicPr/>
          <p:nvPr/>
        </p:nvPicPr>
        <p:blipFill>
          <a:blip r:embed="rId1"/>
          <a:stretch/>
        </p:blipFill>
        <p:spPr>
          <a:xfrm>
            <a:off x="4859280" y="260280"/>
            <a:ext cx="406872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108000" y="260280"/>
            <a:ext cx="4608360" cy="6264360"/>
          </a:xfrm>
          <a:prstGeom prst="wedgeRectCallout">
            <a:avLst>
              <a:gd name="adj1" fmla="val -14759"/>
              <a:gd name="adj2" fmla="val -22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Questions raised from the Sumo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) Is appearance ever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) What is nor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) When should you give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) Does size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) Should you base personality on appea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) What is the point of fighting a battle you know you can’t win?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) Is there a difference between an aim and an obj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) Should you look up or down on your enem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9) Is any obstacle in life too big to overco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) Can man move mount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* Question voted for by the community of enqu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xplosion 2 3"/>
          <p:cNvSpPr/>
          <p:nvPr/>
        </p:nvSpPr>
        <p:spPr>
          <a:xfrm>
            <a:off x="3492360" y="247680"/>
            <a:ext cx="3959280" cy="230328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236000" y="173160"/>
            <a:ext cx="1589040" cy="2093760"/>
          </a:xfrm>
          <a:prstGeom prst="rect">
            <a:avLst/>
          </a:prstGeom>
          <a:ln w="0">
            <a:noFill/>
          </a:ln>
        </p:spPr>
      </p:pic>
      <p:sp>
        <p:nvSpPr>
          <p:cNvPr id="131" name="Rounded Rectangular Callout 3"/>
          <p:cNvSpPr/>
          <p:nvPr/>
        </p:nvSpPr>
        <p:spPr>
          <a:xfrm>
            <a:off x="179280" y="173160"/>
            <a:ext cx="6553440" cy="1960560"/>
          </a:xfrm>
          <a:prstGeom prst="wedgeRoundRectCallout">
            <a:avLst>
              <a:gd name="adj1" fmla="val 69083"/>
              <a:gd name="adj2" fmla="val -624"/>
              <a:gd name="adj3" fmla="val 1666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owever, what we need to do here is to explore the origins of human suffering, as Eliot understood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our next lesson I invite you to take a seat on a metaphorical underground train, as we journey through the traditions of Buddhism and Christianity in order to develop our understanding of suffering in relation to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Four Quartet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743960" cy="514188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ular Callout 6"/>
          <p:cNvSpPr/>
          <p:nvPr/>
        </p:nvSpPr>
        <p:spPr>
          <a:xfrm>
            <a:off x="2195640" y="3068640"/>
            <a:ext cx="1081080" cy="216000"/>
          </a:xfrm>
          <a:prstGeom prst="wedgeRoundRectCallout">
            <a:avLst>
              <a:gd name="adj1" fmla="val -24277"/>
              <a:gd name="adj2" fmla="val -675"/>
              <a:gd name="adj3" fmla="val 16667"/>
            </a:avLst>
          </a:prstGeom>
          <a:solidFill>
            <a:srgbClr val="29292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Buddh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463840" y="700200"/>
            <a:ext cx="4572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Unreal Cit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 the brown fog of a winter daw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 crowd flowed over London Bridge, </a:t>
            </a: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so man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I had not thought death had undone so many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ighs, short and infrequent, were exhal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nd each man fixed his eyes before his fe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lowed up the hill and down King William Stre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where Saint Mary Woolnoth kept the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4"/>
          <p:cNvSpPr/>
          <p:nvPr/>
        </p:nvSpPr>
        <p:spPr>
          <a:xfrm>
            <a:off x="287280" y="700200"/>
            <a:ext cx="2016360" cy="7189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les Baude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5"/>
          <p:cNvSpPr/>
          <p:nvPr/>
        </p:nvSpPr>
        <p:spPr>
          <a:xfrm>
            <a:off x="287280" y="1268280"/>
            <a:ext cx="2016360" cy="7207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nte Infern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10960" y="2190600"/>
            <a:ext cx="2016360" cy="2012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nte Infern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a never-ending rout of souls in pain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I had not thought death had undone so many as passed before me in that mournful train.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956720" y="63360"/>
            <a:ext cx="1187280" cy="156528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3132000" y="66600"/>
            <a:ext cx="4265640" cy="863640"/>
          </a:xfrm>
          <a:prstGeom prst="wedgeRoundRectCallout">
            <a:avLst>
              <a:gd name="adj1" fmla="val 69004"/>
              <a:gd name="adj2" fmla="val 15893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Lines from The Eliot’s poem, Waste Land, showing just two of its influ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ular Callout 12"/>
          <p:cNvSpPr/>
          <p:nvPr/>
        </p:nvSpPr>
        <p:spPr>
          <a:xfrm>
            <a:off x="5611680" y="3716280"/>
            <a:ext cx="3264120" cy="2997360"/>
          </a:xfrm>
          <a:prstGeom prst="wedgeRoundRectCallout">
            <a:avLst>
              <a:gd name="adj1" fmla="val 39712"/>
              <a:gd name="adj2" fmla="val -151541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Much of T. S. Eliot’s poetry is a commentary on the theme of suffering in relation to the human condition. From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The Waste Land 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1922), where city workers flow miserably over London Bridge, to the self-conscious figure of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The Love Song of J Alfred Prufrock (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1915), whose inner conflicts are revealed in the need to ‘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prepare a face for the faces you will meet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ular Callout 13"/>
          <p:cNvSpPr/>
          <p:nvPr/>
        </p:nvSpPr>
        <p:spPr>
          <a:xfrm>
            <a:off x="6516720" y="1442880"/>
            <a:ext cx="2603520" cy="2081520"/>
          </a:xfrm>
          <a:prstGeom prst="wedgeRoundRectCallout">
            <a:avLst>
              <a:gd name="adj1" fmla="val 20037"/>
              <a:gd name="adj2" fmla="val -8071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at is your initial impression of the ‘crowd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at are they do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How are they feeling about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2687760" y="2816280"/>
            <a:ext cx="2900160" cy="2813040"/>
          </a:xfrm>
          <a:prstGeom prst="rect">
            <a:avLst/>
          </a:prstGeom>
          <a:ln w="0">
            <a:noFill/>
          </a:ln>
        </p:spPr>
      </p:pic>
      <p:sp>
        <p:nvSpPr>
          <p:cNvPr id="59" name="Rounded Rectangular Callout 17"/>
          <p:cNvSpPr/>
          <p:nvPr/>
        </p:nvSpPr>
        <p:spPr>
          <a:xfrm>
            <a:off x="210960" y="5143680"/>
            <a:ext cx="3430800" cy="1593720"/>
          </a:xfrm>
          <a:prstGeom prst="wedgeRoundRectCallout">
            <a:avLst>
              <a:gd name="adj1" fmla="val 34097"/>
              <a:gd name="adj2" fmla="val -77777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Having lived through an era which had witnessed two world wars, Eliot, in the early 1940s, gives us in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Four Quartets 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 study of suffering which arguably surpasses that of any of his previous po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276720" y="4005360"/>
            <a:ext cx="539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411200" cy="185724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ular Callout 3"/>
          <p:cNvSpPr/>
          <p:nvPr/>
        </p:nvSpPr>
        <p:spPr>
          <a:xfrm>
            <a:off x="1979640" y="115920"/>
            <a:ext cx="6840360" cy="2881440"/>
          </a:xfrm>
          <a:prstGeom prst="wedgeRoundRectCallout">
            <a:avLst>
              <a:gd name="adj1" fmla="val -60333"/>
              <a:gd name="adj2" fmla="val -36166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 have discussed Eliot’s experience in the gardens of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Burnt Norton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d the evocative language which he employs to both recall and share this encounter – the shafts of sunlight filling an empty pool, the invisible presence of a Timeless reality and the echoes of a forgotten ecstasy; with its allusions to E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the third movement of this poem, Eliot takes us far awa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eaceful gardens of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Burnt Norton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d in contrast sits us amid the hustle and bustle of an underground train; a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place of disaffection’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re the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trained time ridden faces’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s://encrypted-tbn1.gstatic.com/images?q=tbn:ANd9GcRakHxOrSnCgtJMPypRizutjIE5VIlQ4QK-Qeb2Pqkw_Mc5ABF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57720"/>
            <a:ext cx="6073920" cy="302400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ular Callout 5"/>
          <p:cNvSpPr/>
          <p:nvPr/>
        </p:nvSpPr>
        <p:spPr>
          <a:xfrm>
            <a:off x="2046240" y="3086280"/>
            <a:ext cx="3844800" cy="1079280"/>
          </a:xfrm>
          <a:prstGeom prst="wedgeRoundRectCallout">
            <a:avLst>
              <a:gd name="adj1" fmla="val 66504"/>
              <a:gd name="adj2" fmla="val 61236"/>
              <a:gd name="adj3" fmla="val 1666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Distracted from distraction by di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Filled with fancies and empty of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Tumid apathy with no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Men and bits of paper…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ular Callout 6"/>
          <p:cNvSpPr/>
          <p:nvPr/>
        </p:nvSpPr>
        <p:spPr>
          <a:xfrm>
            <a:off x="108000" y="4451400"/>
            <a:ext cx="1871640" cy="2160360"/>
          </a:xfrm>
          <a:prstGeom prst="wedgeRoundRectCallout">
            <a:avLst>
              <a:gd name="adj1" fmla="val -9898"/>
              <a:gd name="adj2" fmla="val -100972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‘distractions’ distract us from distraction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ular Callout 7"/>
          <p:cNvSpPr/>
          <p:nvPr/>
        </p:nvSpPr>
        <p:spPr>
          <a:xfrm>
            <a:off x="88920" y="1844640"/>
            <a:ext cx="1871640" cy="2160720"/>
          </a:xfrm>
          <a:prstGeom prst="wedgeRoundRectCallout">
            <a:avLst>
              <a:gd name="adj1" fmla="val 3949"/>
              <a:gd name="adj2" fmla="val -93388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ow would you describe ‘Tumid apathy’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956720" y="63360"/>
            <a:ext cx="1187280" cy="15652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ular Callout 3"/>
          <p:cNvSpPr/>
          <p:nvPr/>
        </p:nvSpPr>
        <p:spPr>
          <a:xfrm>
            <a:off x="179280" y="189000"/>
            <a:ext cx="7345440" cy="3024000"/>
          </a:xfrm>
          <a:prstGeom prst="wedgeRoundRectCallout">
            <a:avLst>
              <a:gd name="adj1" fmla="val 60365"/>
              <a:gd name="adj2" fmla="val -34388"/>
              <a:gd name="adj3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liot is said to have taken the image from his daily jaunt between Gloucester Road to Russell Square on the London Underground. The scene is bleak – Eliot calls it a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wittering worl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 uses the same theme again in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East Coker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, where he talks about the underground train stopping between stations and seeing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behind every face the mental emptines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’ of those who have nothing to think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405792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Rounded Rectangular Callout 7"/>
          <p:cNvSpPr/>
          <p:nvPr/>
        </p:nvSpPr>
        <p:spPr>
          <a:xfrm>
            <a:off x="2050920" y="1268280"/>
            <a:ext cx="3287880" cy="865440"/>
          </a:xfrm>
          <a:prstGeom prst="wedgeRoundRectCallout">
            <a:avLst>
              <a:gd name="adj1" fmla="val -21856"/>
              <a:gd name="adj2" fmla="val 43546"/>
              <a:gd name="adj3" fmla="val 1666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ime before and time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Eructation of unhealthy so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Into the faded air…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00720" y="342900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these sections of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urnt Nort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ast Cok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Eliot looks beyond the public face of a person’s exterior life and exposes us to the fragile inne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re the images are of tired and disaffected people – made weary by the routines of their daily lives; wilfully distracted from their feelings of dissatisfaction, powerless before the rotating wheels of time which turn and drive their restless m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ular Callout 9"/>
          <p:cNvSpPr/>
          <p:nvPr/>
        </p:nvSpPr>
        <p:spPr>
          <a:xfrm>
            <a:off x="395280" y="3573360"/>
            <a:ext cx="3300480" cy="935280"/>
          </a:xfrm>
          <a:prstGeom prst="wedgeRoundRectCallout">
            <a:avLst>
              <a:gd name="adj1" fmla="val 34587"/>
              <a:gd name="adj2" fmla="val 15289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are the routines of  daily life, which make humans we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ular Callout 10"/>
          <p:cNvSpPr/>
          <p:nvPr/>
        </p:nvSpPr>
        <p:spPr>
          <a:xfrm>
            <a:off x="7210440" y="1268280"/>
            <a:ext cx="1911240" cy="2160720"/>
          </a:xfrm>
          <a:prstGeom prst="wedgeRoundRectCallout">
            <a:avLst>
              <a:gd name="adj1" fmla="val 25189"/>
              <a:gd name="adj2" fmla="val -6613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you agree that people are dissatisfied? If so, what makes them 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1217520" y="3241800"/>
            <a:ext cx="7105680" cy="3028680"/>
            <a:chOff x="1217520" y="3241800"/>
            <a:chExt cx="7105680" cy="3028680"/>
          </a:xfrm>
        </p:grpSpPr>
        <p:pic>
          <p:nvPicPr>
            <p:cNvPr id="75" name="Picture 2" descr="File:Henry David Thoreau.jpg"/>
            <p:cNvPicPr/>
            <p:nvPr/>
          </p:nvPicPr>
          <p:blipFill>
            <a:blip r:embed="rId3"/>
            <a:stretch/>
          </p:blipFill>
          <p:spPr>
            <a:xfrm>
              <a:off x="6087960" y="3514680"/>
              <a:ext cx="223524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ounded Rectangular Callout 13"/>
            <p:cNvSpPr/>
            <p:nvPr/>
          </p:nvSpPr>
          <p:spPr>
            <a:xfrm>
              <a:off x="1217520" y="3241800"/>
              <a:ext cx="4606920" cy="963360"/>
            </a:xfrm>
            <a:prstGeom prst="wedgeRoundRectCallout">
              <a:avLst>
                <a:gd name="adj1" fmla="val 78499"/>
                <a:gd name="adj2" fmla="val 116550"/>
                <a:gd name="adj3" fmla="val 16667"/>
              </a:avLst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The mass of men lead lives of quiet desperation.’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nry David Thore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286760" y="-6480"/>
            <a:ext cx="1743120" cy="2297160"/>
          </a:xfrm>
          <a:prstGeom prst="rect">
            <a:avLst/>
          </a:prstGeom>
          <a:ln w="0">
            <a:noFill/>
          </a:ln>
        </p:spPr>
      </p:pic>
      <p:sp>
        <p:nvSpPr>
          <p:cNvPr id="78" name="Rounded Rectangular Callout 3"/>
          <p:cNvSpPr/>
          <p:nvPr/>
        </p:nvSpPr>
        <p:spPr>
          <a:xfrm>
            <a:off x="3059280" y="620640"/>
            <a:ext cx="3716280" cy="1542960"/>
          </a:xfrm>
          <a:prstGeom prst="wedgeRoundRectCallout">
            <a:avLst>
              <a:gd name="adj1" fmla="val 75467"/>
              <a:gd name="adj2" fmla="val -31902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Elsewhere, this time-bound existence is developed to include, not just the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experience but also that of our ancest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39640" y="51595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ular Callout 5"/>
          <p:cNvSpPr/>
          <p:nvPr/>
        </p:nvSpPr>
        <p:spPr>
          <a:xfrm>
            <a:off x="108000" y="4842000"/>
            <a:ext cx="6048360" cy="1508040"/>
          </a:xfrm>
          <a:prstGeom prst="wedgeRoundRectCallout">
            <a:avLst>
              <a:gd name="adj1" fmla="val -20833"/>
              <a:gd name="adj2" fmla="val 4763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Where is there an end to it, the soundless w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The silent withering of autumn flower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There is no end, but addition: the tr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Consequence of further days and hours…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ular Callout 6"/>
          <p:cNvSpPr/>
          <p:nvPr/>
        </p:nvSpPr>
        <p:spPr>
          <a:xfrm>
            <a:off x="395280" y="2886120"/>
            <a:ext cx="6480360" cy="1582560"/>
          </a:xfrm>
          <a:prstGeom prst="wedgeRoundRectCallout">
            <a:avLst>
              <a:gd name="adj1" fmla="val -20833"/>
              <a:gd name="adj2" fmla="val 3148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What was to be the value of the long looked forward 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Long hoped for calm, the autumnal sere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And wisdom of age? Had they deceived 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Or deceived themselves, the quiet voiced elder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ular Callout 7"/>
          <p:cNvSpPr/>
          <p:nvPr/>
        </p:nvSpPr>
        <p:spPr>
          <a:xfrm>
            <a:off x="7002360" y="2019240"/>
            <a:ext cx="1800360" cy="2386080"/>
          </a:xfrm>
          <a:prstGeom prst="wedgeRoundRectCallout">
            <a:avLst>
              <a:gd name="adj1" fmla="val 13143"/>
              <a:gd name="adj2" fmla="val -94375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And further, in The 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Dry Salvages</a:t>
            </a: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, we come upon the singular voice of humanity in la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flashuser.net/wp-content/uploads/2012/03/black_white_portrait_photo_21.jpg"/>
          <p:cNvPicPr/>
          <p:nvPr/>
        </p:nvPicPr>
        <p:blipFill>
          <a:blip r:embed="rId2"/>
          <a:stretch/>
        </p:blipFill>
        <p:spPr>
          <a:xfrm>
            <a:off x="108000" y="307800"/>
            <a:ext cx="2595600" cy="220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6256440" y="468792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286760" y="-6480"/>
            <a:ext cx="1743120" cy="2297160"/>
          </a:xfrm>
          <a:prstGeom prst="rect">
            <a:avLst/>
          </a:prstGeom>
          <a:ln w="0">
            <a:noFill/>
          </a:ln>
        </p:spPr>
      </p:pic>
      <p:sp>
        <p:nvSpPr>
          <p:cNvPr id="86" name="Rounded Rectangular Callout 3"/>
          <p:cNvSpPr/>
          <p:nvPr/>
        </p:nvSpPr>
        <p:spPr>
          <a:xfrm>
            <a:off x="270000" y="276120"/>
            <a:ext cx="6379920" cy="895320"/>
          </a:xfrm>
          <a:prstGeom prst="wedgeRoundRectCallout">
            <a:avLst>
              <a:gd name="adj1" fmla="val 68407"/>
              <a:gd name="adj2" fmla="val 23018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om cradle to grave comes the final sorrow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o set a crown upon your lifetime’s effort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9640" y="51595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ular Callout 5"/>
          <p:cNvSpPr/>
          <p:nvPr/>
        </p:nvSpPr>
        <p:spPr>
          <a:xfrm>
            <a:off x="79200" y="1941480"/>
            <a:ext cx="6229440" cy="1138320"/>
          </a:xfrm>
          <a:prstGeom prst="wedgeRoundRectCallout">
            <a:avLst>
              <a:gd name="adj1" fmla="val -20833"/>
              <a:gd name="adj2" fmla="val 4763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…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he rending pain of re-enac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f all that you have said and done, and been; the sh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f motives late revealed, and the awar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f things ill done and done to others’ harm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ular Callout 6"/>
          <p:cNvSpPr/>
          <p:nvPr/>
        </p:nvSpPr>
        <p:spPr>
          <a:xfrm>
            <a:off x="3276720" y="981000"/>
            <a:ext cx="4248000" cy="831960"/>
          </a:xfrm>
          <a:prstGeom prst="wedgeRoundRectCallout">
            <a:avLst>
              <a:gd name="adj1" fmla="val -20833"/>
              <a:gd name="adj2" fmla="val 3148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he cold friction of expiring sen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As body and soul begin to fall asund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ular Callout 7"/>
          <p:cNvSpPr/>
          <p:nvPr/>
        </p:nvSpPr>
        <p:spPr>
          <a:xfrm>
            <a:off x="6505560" y="2322360"/>
            <a:ext cx="2584440" cy="4340520"/>
          </a:xfrm>
          <a:prstGeom prst="wedgeRoundRectCallout">
            <a:avLst>
              <a:gd name="adj1" fmla="val 19810"/>
              <a:gd name="adj2" fmla="val -78032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reward for a lifetime’s struggle is an ageing body and a failing mind. In the background a laughter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hich ceases to amus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’ And then comes the hammer blow: Our suffering was infectious – we passed it on, either in anger or in error, to our lovers, parents, colleagues or broth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817720" y="4492800"/>
            <a:ext cx="3521160" cy="2339640"/>
          </a:xfrm>
          <a:prstGeom prst="rect">
            <a:avLst/>
          </a:prstGeom>
          <a:ln w="0">
            <a:noFill/>
          </a:ln>
        </p:spPr>
      </p:pic>
      <p:sp>
        <p:nvSpPr>
          <p:cNvPr id="92" name="Cloud Callout 9"/>
          <p:cNvSpPr/>
          <p:nvPr/>
        </p:nvSpPr>
        <p:spPr>
          <a:xfrm>
            <a:off x="270000" y="3165480"/>
            <a:ext cx="4140000" cy="2654280"/>
          </a:xfrm>
          <a:prstGeom prst="cloudCallout">
            <a:avLst>
              <a:gd name="adj1" fmla="val 47384"/>
              <a:gd name="adj2" fmla="val 34833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It was important for Eliot to labour this theme of suffering because, of course, it’s part of the broader message of his poem: that suffering has a purpose and can be understood and, to a certain extent, transcen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42200" y="-563400"/>
            <a:ext cx="339336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. S. Eliot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nimula      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                        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sues from the hand of God, the simple soul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a flat world of changing lights and noise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light, dark, dry, damp, chilly or war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ving between the legs of tables and of chai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ising or fall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sping at kisses and toy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vancing boldly, sudden to take alar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treating to the corner of arm and knee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ager to be reassured, taking pleasur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 the fragrant brilliance of the Christmas tre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leasure in the wind, the sunlight and the sea'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udies the sunlit pattern on the floor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running stays around a silver tag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founds the actual and the fanciful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tent with playing cards and kings and queen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the fairies do and what the servants say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heavy burden of the growing sou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rplexes and offends more, day by da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ek by week, offends and perplexes more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th the imperatives of "so it seems"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may and may not, desire and control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pain of living and the drug of d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rl up the small soul in the window sea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hind the Encyclopaedia Britannica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sues from the hand of time, the simple soul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rresolute and sefish, misshapen, l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able to fare forward or retreat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aring the warm reality, the offered goo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nying the importunity of the blot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adow of its own shadow, spectre of its own gloo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aving disordered papers in a dusty room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ving first in silence after the viaticu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ay for Guiterriez, avid of speed and pow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 Boudin, blown to piece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 this one, who made a great fortu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that one who went his own way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ay for Floret by the boorhound slain between the yew tree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ay for us now and at the hour of our birth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8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76720" y="306360"/>
            <a:ext cx="2430360" cy="2831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fluenc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ante Purgatorio 16:85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Issuing from His hands, the soul-on which He thought with love before creating it- is like a child who weeps and laughs in sport; that soul is simple, unaware; but since a joyful Maker gave it motion, it turns willingly to things that bring delight. Issues the simple soul, that nothing knows, Save that, proceeding from a joyous Maker, Gladly it turns to that which gives it pleasure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375080" y="4071960"/>
            <a:ext cx="1406520" cy="1371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Calibri"/>
              </a:rPr>
              <a:t>Viaticum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is a term used especially in the Catholic Church for the sick person who is dying, and is thus a part of the last r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ttp://upload.wikimedia.org/wikipedia/commons/thumb/c/cf/Alexey_Venetsianov_25.jpg/220px-Alexey_Venetsianov_25.jpg"/>
          <p:cNvPicPr/>
          <p:nvPr/>
        </p:nvPicPr>
        <p:blipFill>
          <a:blip r:embed="rId1"/>
          <a:stretch/>
        </p:blipFill>
        <p:spPr>
          <a:xfrm>
            <a:off x="2867040" y="3216240"/>
            <a:ext cx="1411200" cy="116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7902720" y="150840"/>
            <a:ext cx="1187280" cy="15652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1"/>
          <p:cNvSpPr/>
          <p:nvPr/>
        </p:nvSpPr>
        <p:spPr>
          <a:xfrm>
            <a:off x="5838840" y="382680"/>
            <a:ext cx="1728720" cy="936360"/>
          </a:xfrm>
          <a:prstGeom prst="wedgeRoundRectCallout">
            <a:avLst>
              <a:gd name="adj1" fmla="val 94939"/>
              <a:gd name="adj2" fmla="val -893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xplore this 1928 poem of Elio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2"/>
          <p:cNvSpPr/>
          <p:nvPr/>
        </p:nvSpPr>
        <p:spPr>
          <a:xfrm>
            <a:off x="5835600" y="1579680"/>
            <a:ext cx="3021120" cy="2797200"/>
          </a:xfrm>
          <a:prstGeom prst="wedgeRoundRectCallout">
            <a:avLst>
              <a:gd name="adj1" fmla="val 37217"/>
              <a:gd name="adj2" fmla="val -76250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iscu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the poem be divided into chronological 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is the ‘heavy burden of the growing soul’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is the ‘pain of living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11"/>
          <p:cNvSpPr/>
          <p:nvPr/>
        </p:nvSpPr>
        <p:spPr>
          <a:xfrm>
            <a:off x="6603840" y="4586400"/>
            <a:ext cx="2459160" cy="1908000"/>
          </a:xfrm>
          <a:prstGeom prst="wedgeRoundRectCallout">
            <a:avLst>
              <a:gd name="adj1" fmla="val -81175"/>
              <a:gd name="adj2" fmla="val 8930"/>
              <a:gd name="adj3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d through the poem together as a class and then undertake a P4C enqui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thinker"/>
          <p:cNvPicPr/>
          <p:nvPr/>
        </p:nvPicPr>
        <p:blipFill>
          <a:blip r:embed="rId3"/>
          <a:stretch/>
        </p:blipFill>
        <p:spPr>
          <a:xfrm>
            <a:off x="4923000" y="5505480"/>
            <a:ext cx="936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4"/>
          <p:cNvGrpSpPr/>
          <p:nvPr/>
        </p:nvGrpSpPr>
        <p:grpSpPr>
          <a:xfrm>
            <a:off x="388800" y="2924280"/>
            <a:ext cx="2735280" cy="3638520"/>
            <a:chOff x="388800" y="2924280"/>
            <a:chExt cx="2735280" cy="3638520"/>
          </a:xfrm>
        </p:grpSpPr>
        <p:sp>
          <p:nvSpPr>
            <p:cNvPr id="103" name="Shape 52"/>
            <p:cNvSpPr/>
            <p:nvPr/>
          </p:nvSpPr>
          <p:spPr>
            <a:xfrm>
              <a:off x="388800" y="2924280"/>
              <a:ext cx="2735280" cy="3638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841" y="0"/>
                  </a:lnTo>
                  <a:lnTo>
                    <a:pt x="17841" y="9921"/>
                  </a:lnTo>
                  <a:lnTo>
                    <a:pt x="19372" y="9921"/>
                  </a:lnTo>
                  <a:lnTo>
                    <a:pt x="19372" y="8383"/>
                  </a:lnTo>
                  <a:lnTo>
                    <a:pt x="21600" y="10800"/>
                  </a:lnTo>
                  <a:lnTo>
                    <a:pt x="19372" y="13217"/>
                  </a:lnTo>
                  <a:lnTo>
                    <a:pt x="19372" y="11679"/>
                  </a:lnTo>
                  <a:lnTo>
                    <a:pt x="17841" y="11679"/>
                  </a:lnTo>
                  <a:lnTo>
                    <a:pt x="17841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1bb"/>
                </a:gs>
                <a:gs pos="100000">
                  <a:srgbClr val="fff2ed"/>
                </a:gs>
              </a:gsLst>
              <a:lin ang="16200000"/>
            </a:gradFill>
            <a:ln w="9360">
              <a:solidFill>
                <a:srgbClr val="f69240"/>
              </a:solidFill>
              <a:beve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hape 53"/>
            <p:cNvSpPr/>
            <p:nvPr/>
          </p:nvSpPr>
          <p:spPr>
            <a:xfrm>
              <a:off x="388800" y="3036960"/>
              <a:ext cx="2259360" cy="34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Skil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P4C encourages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800" y="298440"/>
            <a:ext cx="8715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libri"/>
              </a:rPr>
              <a:t>Creating a Community of Enqui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446960" cy="122400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9360">
            <a:solidFill>
              <a:srgbClr val="be4b48"/>
            </a:solidFill>
            <a:beve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hilosophical Enquiry on Eliot’s Ani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1.png" descr=""/>
          <p:cNvPicPr/>
          <p:nvPr/>
        </p:nvPicPr>
        <p:blipFill>
          <a:blip r:embed="rId1"/>
          <a:stretch/>
        </p:blipFill>
        <p:spPr>
          <a:xfrm>
            <a:off x="182520" y="1343160"/>
            <a:ext cx="97812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60"/>
          <p:cNvGrpSpPr/>
          <p:nvPr/>
        </p:nvGrpSpPr>
        <p:grpSpPr>
          <a:xfrm>
            <a:off x="3124080" y="2924280"/>
            <a:ext cx="5794560" cy="3638520"/>
            <a:chOff x="3124080" y="2924280"/>
            <a:chExt cx="5794560" cy="3638520"/>
          </a:xfrm>
        </p:grpSpPr>
        <p:sp>
          <p:nvSpPr>
            <p:cNvPr id="109" name="Shape 58"/>
            <p:cNvSpPr/>
            <p:nvPr/>
          </p:nvSpPr>
          <p:spPr>
            <a:xfrm>
              <a:off x="3124080" y="2924280"/>
              <a:ext cx="5794560" cy="3638520"/>
            </a:xfrm>
            <a:prstGeom prst="rect">
              <a:avLst/>
            </a:prstGeom>
            <a:gradFill rotWithShape="0">
              <a:gsLst>
                <a:gs pos="0">
                  <a:srgbClr val="dafea4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5"/>
              </a:solidFill>
              <a:beve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Collaborative E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Personal Refl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Speaking and Liste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Critical and Creative Think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hape 59"/>
            <p:cNvSpPr/>
            <p:nvPr/>
          </p:nvSpPr>
          <p:spPr>
            <a:xfrm>
              <a:off x="3124080" y="4528080"/>
              <a:ext cx="57945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444600" indent="-44460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image1.png" descr=""/>
          <p:cNvPicPr/>
          <p:nvPr/>
        </p:nvPicPr>
        <p:blipFill>
          <a:blip r:embed="rId2"/>
          <a:stretch/>
        </p:blipFill>
        <p:spPr>
          <a:xfrm>
            <a:off x="885960" y="3645000"/>
            <a:ext cx="1150920" cy="144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thinker"/>
          <p:cNvPicPr/>
          <p:nvPr/>
        </p:nvPicPr>
        <p:blipFill>
          <a:blip r:embed="rId3"/>
          <a:stretch/>
        </p:blipFill>
        <p:spPr>
          <a:xfrm>
            <a:off x="644400" y="168120"/>
            <a:ext cx="797040" cy="1030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7956720" y="74520"/>
            <a:ext cx="96192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6659640" y="189000"/>
            <a:ext cx="2305080" cy="1655640"/>
          </a:xfrm>
          <a:prstGeom prst="wedgeRectCallout">
            <a:avLst>
              <a:gd name="adj1" fmla="val -76856"/>
              <a:gd name="adj2" fmla="val -24148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of the questions listed on the side are  philosophical 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24000" y="260280"/>
            <a:ext cx="4895640" cy="6480360"/>
          </a:xfrm>
          <a:prstGeom prst="wedgeRectCallout">
            <a:avLst>
              <a:gd name="adj1" fmla="val -45851"/>
              <a:gd name="adj2" fmla="val -220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money buy happi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makes a good fri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is the capital city of the U.S.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) Is it ever right to ki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) Is there a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) Why is the sky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7) What is 26 x 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s there life on other plan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s there an afterlif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o I have the freedom to make my own cho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5508720" y="1989000"/>
            <a:ext cx="3456000" cy="4680000"/>
          </a:xfrm>
          <a:prstGeom prst="wedgeRectCallout">
            <a:avLst>
              <a:gd name="adj1" fmla="val 6685"/>
              <a:gd name="adj2" fmla="val -1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aning ‘love of wisdo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hilosoph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courage you to reflect on life, to ask meaningful questions and to try to find answers to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us to question or examine ou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sually involve people having different views or opinions in  response to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think"/>
          <p:cNvPicPr/>
          <p:nvPr/>
        </p:nvPicPr>
        <p:blipFill>
          <a:blip r:embed="rId1"/>
          <a:stretch/>
        </p:blipFill>
        <p:spPr>
          <a:xfrm>
            <a:off x="2124000" y="7920"/>
            <a:ext cx="1692360" cy="109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thinker"/>
          <p:cNvPicPr/>
          <p:nvPr/>
        </p:nvPicPr>
        <p:blipFill>
          <a:blip r:embed="rId2"/>
          <a:stretch/>
        </p:blipFill>
        <p:spPr>
          <a:xfrm>
            <a:off x="4714920" y="274680"/>
            <a:ext cx="122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Three: Suffering</cp:keywords>
  <dc:language>en-US</dc:language>
  <cp:lastModifiedBy>Richard Brock</cp:lastModifiedBy>
  <cp:lastPrinted>2015-05-22T09:14:27Z</cp:lastPrinted>
  <dcterms:modified xsi:type="dcterms:W3CDTF">2015-06-09T11:14:20Z</dcterms:modified>
  <cp:revision>195</cp:revision>
  <dc:subject>Four Quartets: T.S. Eliot and Spirituality</dc:subject>
  <dc:title>Lesson 11 - Four Quartets and The Human Condition</dc:title>
</cp:coreProperties>
</file>