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1BE-C59B-41F2-A1EE-3DC4CD4B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s://www.youtube.com/watch?v=qMxX-QOV9tI      background song to greet cla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4EC-73E2-49E9-A2B2-4BB0F239B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675-3190-48FB-869A-5A250C68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194-9E46-4A01-828D-D202EEDC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D57-5D57-4780-AD96-77AC1FFB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51A-C02C-4B62-B54E-B4DFB8E9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26D-D10B-4A4F-A0C6-3787C9E3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C1F-1C1A-411B-A66A-E7BB04B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958-E373-416F-95BD-20542271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DC2-363E-4E6C-BCBF-C46334A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AB5-6539-4189-97F8-AC0BA282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D94-47C6-417A-A9C8-4A5DAC4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42A-9E1D-4FF1-8D3A-53A7E8C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3F6-8FEE-48B4-A289-0D0FAFB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22B-A796-46C2-B901-3359247A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508720" y="0"/>
            <a:ext cx="36068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5</a:t>
            </a:r>
            <a:r>
              <a:rPr b="1" i="1" lang="en-GB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oring the concept of w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examine and explore our concept of wealth and the relationship of money to 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loud Callout 3"/>
          <p:cNvSpPr/>
          <p:nvPr/>
        </p:nvSpPr>
        <p:spPr>
          <a:xfrm>
            <a:off x="1692360" y="658800"/>
            <a:ext cx="3663720" cy="2879640"/>
          </a:xfrm>
          <a:prstGeom prst="cloudCallout">
            <a:avLst>
              <a:gd name="adj1" fmla="val 74064"/>
              <a:gd name="adj2" fmla="val 508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3000600" cy="362412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1"/>
          <p:cNvSpPr/>
          <p:nvPr/>
        </p:nvSpPr>
        <p:spPr>
          <a:xfrm>
            <a:off x="900000" y="4005360"/>
            <a:ext cx="4751640" cy="1511280"/>
          </a:xfrm>
          <a:prstGeom prst="wedgeRoundRectCallout">
            <a:avLst>
              <a:gd name="adj1" fmla="val 82546"/>
              <a:gd name="adj2" fmla="val 17601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y to play the lo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oose 6 numbers between 1 and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global-lottery-secrets.com/images/uk_national_lottery_logo250x268.gif"/>
          <p:cNvPicPr/>
          <p:nvPr/>
        </p:nvPicPr>
        <p:blipFill>
          <a:blip r:embed="rId1"/>
          <a:stretch/>
        </p:blipFill>
        <p:spPr>
          <a:xfrm>
            <a:off x="1838160" y="404640"/>
            <a:ext cx="1589400" cy="170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foviance.com/wp-content/uploads/2008/09/main_national-lottery.gif"/>
          <p:cNvPicPr/>
          <p:nvPr/>
        </p:nvPicPr>
        <p:blipFill>
          <a:blip r:embed="rId2"/>
          <a:stretch/>
        </p:blipFill>
        <p:spPr>
          <a:xfrm>
            <a:off x="2631960" y="2492280"/>
            <a:ext cx="4143600" cy="1790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98320" y="479736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936800" y="4780080"/>
            <a:ext cx="13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95800" y="4797360"/>
            <a:ext cx="127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719600" y="4792680"/>
            <a:ext cx="12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089760" y="4800600"/>
            <a:ext cx="137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458120" y="4792680"/>
            <a:ext cx="133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"/>
          <p:cNvPicPr/>
          <p:nvPr/>
        </p:nvPicPr>
        <p:blipFill>
          <a:blip r:embed="rId3"/>
          <a:stretch/>
        </p:blipFill>
        <p:spPr>
          <a:xfrm>
            <a:off x="3708360" y="138240"/>
            <a:ext cx="1868400" cy="216216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ular Callout 5"/>
          <p:cNvSpPr/>
          <p:nvPr/>
        </p:nvSpPr>
        <p:spPr>
          <a:xfrm>
            <a:off x="5867280" y="404640"/>
            <a:ext cx="3168720" cy="1013040"/>
          </a:xfrm>
          <a:prstGeom prst="wedgeRoundRectCallout">
            <a:avLst>
              <a:gd name="adj1" fmla="val -85444"/>
              <a:gd name="adj2" fmla="val 11300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re come the winning number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global-lottery-secrets.com/images/uk_national_lottery_logo250x268.gif"/>
          <p:cNvPicPr/>
          <p:nvPr/>
        </p:nvPicPr>
        <p:blipFill>
          <a:blip r:embed="rId1"/>
          <a:stretch/>
        </p:blipFill>
        <p:spPr>
          <a:xfrm>
            <a:off x="1838160" y="404640"/>
            <a:ext cx="1589400" cy="170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global-lottery-secrets.com/images/uk_national_lottery_logo250x268.gif"/>
          <p:cNvPicPr/>
          <p:nvPr/>
        </p:nvPicPr>
        <p:blipFill>
          <a:blip r:embed="rId2"/>
          <a:stretch/>
        </p:blipFill>
        <p:spPr>
          <a:xfrm>
            <a:off x="5719680" y="404640"/>
            <a:ext cx="1589040" cy="170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foviance.com/wp-content/uploads/2008/09/main_national-lottery.gif"/>
          <p:cNvPicPr/>
          <p:nvPr/>
        </p:nvPicPr>
        <p:blipFill>
          <a:blip r:embed="rId3"/>
          <a:stretch/>
        </p:blipFill>
        <p:spPr>
          <a:xfrm>
            <a:off x="2631960" y="2492280"/>
            <a:ext cx="4143600" cy="179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50920" y="4437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y’s winning numbers and their value, in ascending o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 = £10          4 = £296        5 = £4400    6 =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1360" y="3284640"/>
            <a:ext cx="8425080" cy="400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2"/>
          <a:stretch/>
        </p:blipFill>
        <p:spPr>
          <a:xfrm>
            <a:off x="179280" y="0"/>
            <a:ext cx="978120" cy="113040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ular Callout 2"/>
          <p:cNvSpPr/>
          <p:nvPr/>
        </p:nvSpPr>
        <p:spPr>
          <a:xfrm>
            <a:off x="2376360" y="112680"/>
            <a:ext cx="6131160" cy="951120"/>
          </a:xfrm>
          <a:prstGeom prst="wedgeRoundRectCallout">
            <a:avLst>
              <a:gd name="adj1" fmla="val -76037"/>
              <a:gd name="adj2" fmla="val -2641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ow do we measure w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ular Callout 3"/>
          <p:cNvSpPr/>
          <p:nvPr/>
        </p:nvSpPr>
        <p:spPr>
          <a:xfrm>
            <a:off x="328680" y="1417680"/>
            <a:ext cx="8110440" cy="1662120"/>
          </a:xfrm>
          <a:prstGeom prst="wedgeRoundRectCallout">
            <a:avLst>
              <a:gd name="adj1" fmla="val -44222"/>
              <a:gd name="adj2" fmla="val -107550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nk, pair, shar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your own think of at least 3 ways of measuring someone’s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n share your ideas with the person sitting next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let’s share our ideas with the rest of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unteer to write on the  boa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government calculate weal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8120" y="1430280"/>
            <a:ext cx="8291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ONS (Office for National Statistics) is a government department that studies a wide range of information about people who live in England – from healthcare, crime and population statistics to farming and the distribution of wealth across the country. They calculate wealth by looking 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ersonal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money in bank accou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sion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money invested in private pen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Property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How much the house/ houses someone owns are wo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2000" spc="-1" strike="noStrike">
                <a:solidFill>
                  <a:srgbClr val="222268"/>
                </a:solidFill>
                <a:latin typeface="Calibri"/>
              </a:rPr>
              <a:t>Physical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the value of all your ‘stuff’ – cars, antiques, items in your hous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"/>
          <p:cNvPicPr/>
          <p:nvPr/>
        </p:nvPicPr>
        <p:blipFill>
          <a:blip r:embed="rId1"/>
          <a:stretch/>
        </p:blipFill>
        <p:spPr>
          <a:xfrm>
            <a:off x="108000" y="85680"/>
            <a:ext cx="977760" cy="11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/>
          <p:cNvPicPr/>
          <p:nvPr/>
        </p:nvPicPr>
        <p:blipFill>
          <a:blip r:embed="rId2"/>
          <a:stretch/>
        </p:blipFill>
        <p:spPr>
          <a:xfrm>
            <a:off x="7240680" y="4900680"/>
            <a:ext cx="1404720" cy="162396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ular Callout 3"/>
          <p:cNvSpPr/>
          <p:nvPr/>
        </p:nvSpPr>
        <p:spPr>
          <a:xfrm>
            <a:off x="4068720" y="4983120"/>
            <a:ext cx="3167280" cy="1368360"/>
          </a:xfrm>
          <a:prstGeom prst="wedgeRoundRectCallout">
            <a:avLst>
              <a:gd name="adj1" fmla="val 64324"/>
              <a:gd name="adj2" fmla="val -13310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ave you noticed the common factor in our discussion about wealth so f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-235080" y="4353840"/>
            <a:ext cx="4183200" cy="2717640"/>
            <a:chOff x="-235080" y="4353840"/>
            <a:chExt cx="4183200" cy="2717640"/>
          </a:xfrm>
        </p:grpSpPr>
        <p:pic>
          <p:nvPicPr>
            <p:cNvPr id="82" name="Picture 2" descr=""/>
            <p:cNvPicPr/>
            <p:nvPr/>
          </p:nvPicPr>
          <p:blipFill>
            <a:blip r:embed="rId3"/>
            <a:stretch/>
          </p:blipFill>
          <p:spPr>
            <a:xfrm>
              <a:off x="2556360" y="4928040"/>
              <a:ext cx="139176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Explosion 2 6"/>
            <p:cNvSpPr/>
            <p:nvPr/>
          </p:nvSpPr>
          <p:spPr>
            <a:xfrm rot="20407800">
              <a:off x="0" y="4775040"/>
              <a:ext cx="2808360" cy="1874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on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0" descr=""/>
          <p:cNvPicPr/>
          <p:nvPr/>
        </p:nvPicPr>
        <p:blipFill>
          <a:blip r:embed="rId1"/>
          <a:stretch/>
        </p:blipFill>
        <p:spPr>
          <a:xfrm>
            <a:off x="7921800" y="38160"/>
            <a:ext cx="1056960" cy="1276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69840" y="622476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irgil speaking of Dante on the foot of 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gatory I: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38120" y="2500200"/>
            <a:ext cx="3743280" cy="363240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ular Callout 20"/>
          <p:cNvSpPr/>
          <p:nvPr/>
        </p:nvSpPr>
        <p:spPr>
          <a:xfrm>
            <a:off x="5003640" y="5911920"/>
            <a:ext cx="3635640" cy="701640"/>
          </a:xfrm>
          <a:prstGeom prst="wedgeRoundRectCallout">
            <a:avLst>
              <a:gd name="adj1" fmla="val -133578"/>
              <a:gd name="adj2" fmla="val -281388"/>
              <a:gd name="adj3" fmla="val 1666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Calibri"/>
              </a:rPr>
              <a:t>Liberta va cercand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ular Callout 5"/>
          <p:cNvSpPr/>
          <p:nvPr/>
        </p:nvSpPr>
        <p:spPr>
          <a:xfrm>
            <a:off x="233280" y="189000"/>
            <a:ext cx="7416720" cy="2160360"/>
          </a:xfrm>
          <a:prstGeom prst="wedgeRoundRectCallout">
            <a:avLst>
              <a:gd name="adj1" fmla="val 59046"/>
              <a:gd name="adj2" fmla="val -3226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rriving at the foot of Mount Purgatory, Dante and Virgil are challenged by Cato, guardian to the mountain, who asks –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ho are ye that have fled the eternal prison… are the laws of the abyss been broken or has a new decree been made in heaven?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ponding that their journey has been sanctioned by Heaven, Virgil goes onto tell Cato that having passed through hell, his protégé, Dante, goes now in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earch of his freedom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ular Callout 8"/>
          <p:cNvSpPr/>
          <p:nvPr/>
        </p:nvSpPr>
        <p:spPr>
          <a:xfrm>
            <a:off x="4788000" y="2590920"/>
            <a:ext cx="3851280" cy="1027080"/>
          </a:xfrm>
          <a:prstGeom prst="wedgeRoundRectCallout">
            <a:avLst>
              <a:gd name="adj1" fmla="val -95703"/>
              <a:gd name="adj2" fmla="val 101097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ke a list of 10 things which give people freed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ular Callout 22"/>
          <p:cNvSpPr/>
          <p:nvPr/>
        </p:nvSpPr>
        <p:spPr>
          <a:xfrm>
            <a:off x="4896000" y="4151160"/>
            <a:ext cx="3852720" cy="1027440"/>
          </a:xfrm>
          <a:prstGeom prst="wedgeRoundRectCallout">
            <a:avLst>
              <a:gd name="adj1" fmla="val -100666"/>
              <a:gd name="adj2" fmla="val -4247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ow many of these where dependent on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0" descr=""/>
          <p:cNvPicPr/>
          <p:nvPr/>
        </p:nvPicPr>
        <p:blipFill>
          <a:blip r:embed="rId1"/>
          <a:stretch/>
        </p:blipFill>
        <p:spPr>
          <a:xfrm>
            <a:off x="7921800" y="38160"/>
            <a:ext cx="1056960" cy="127620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ular Callout 2"/>
          <p:cNvSpPr/>
          <p:nvPr/>
        </p:nvSpPr>
        <p:spPr>
          <a:xfrm>
            <a:off x="179280" y="333360"/>
            <a:ext cx="7201080" cy="2735280"/>
          </a:xfrm>
          <a:prstGeom prst="wedgeRoundRectCallout">
            <a:avLst>
              <a:gd name="adj1" fmla="val 61425"/>
              <a:gd name="adj2" fmla="val -4042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most of us the term wealth refers to money, but arguably money is simply a form of freedom – e.g. it frees us from the stress of making ends meet; it frees us to lock up our homes and take a two week golfing holiday in the Algarve; it might also free us to use private health care. Having time can be another form of freedom. Consider the extent to which a parent values their ‘free time.’ Physical health too is a form of freedom – that of movement, exercise and sport. And love – which offers us the freedom of friendship and intimacy. Freedom is the real wealth and tr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063680" cy="304776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ular Callout 4"/>
          <p:cNvSpPr/>
          <p:nvPr/>
        </p:nvSpPr>
        <p:spPr>
          <a:xfrm>
            <a:off x="4957920" y="3351240"/>
            <a:ext cx="4046400" cy="1147680"/>
          </a:xfrm>
          <a:prstGeom prst="wedgeRoundRectCallout">
            <a:avLst>
              <a:gd name="adj1" fmla="val 33527"/>
              <a:gd name="adj2" fmla="val -278513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you think of other examples of freedom as weal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4643280" y="4498920"/>
            <a:ext cx="4113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0" descr=""/>
          <p:cNvPicPr/>
          <p:nvPr/>
        </p:nvPicPr>
        <p:blipFill>
          <a:blip r:embed="rId1"/>
          <a:stretch/>
        </p:blipFill>
        <p:spPr>
          <a:xfrm>
            <a:off x="7899480" y="38160"/>
            <a:ext cx="107928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69920" y="173160"/>
            <a:ext cx="7426440" cy="70164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ney is not the great wealth, rather it is the freedom which money offer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ular Callout 4"/>
          <p:cNvSpPr/>
          <p:nvPr/>
        </p:nvSpPr>
        <p:spPr>
          <a:xfrm>
            <a:off x="1116000" y="1054080"/>
            <a:ext cx="6373800" cy="773280"/>
          </a:xfrm>
          <a:prstGeom prst="wedgeRoundRectCallout">
            <a:avLst>
              <a:gd name="adj1" fmla="val 61337"/>
              <a:gd name="adj2" fmla="val -112273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 what extent do you agree or disagree with this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709560" y="3498840"/>
            <a:ext cx="7756560" cy="335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3"/>
          <a:stretch/>
        </p:blipFill>
        <p:spPr>
          <a:xfrm>
            <a:off x="169920" y="2008080"/>
            <a:ext cx="1079280" cy="127656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8"/>
          <p:cNvSpPr/>
          <p:nvPr/>
        </p:nvSpPr>
        <p:spPr>
          <a:xfrm>
            <a:off x="3816360" y="2081160"/>
            <a:ext cx="5154480" cy="636480"/>
          </a:xfrm>
          <a:prstGeom prst="wedgeRoundRectCallout">
            <a:avLst>
              <a:gd name="adj1" fmla="val 39328"/>
              <a:gd name="adj2" fmla="val -264384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makes a person wealthy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6394320" y="3033720"/>
            <a:ext cx="2409840" cy="160668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10"/>
          <p:cNvSpPr/>
          <p:nvPr/>
        </p:nvSpPr>
        <p:spPr>
          <a:xfrm>
            <a:off x="1249200" y="2610000"/>
            <a:ext cx="2633760" cy="2114280"/>
          </a:xfrm>
          <a:prstGeom prst="wedgeRoundRectCallout">
            <a:avLst>
              <a:gd name="adj1" fmla="val -64874"/>
              <a:gd name="adj2" fmla="val -51671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 in a pair to create a wealth survey of your own. Canvas views from others on what wealth actually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Four: Freedom</cp:keywords>
  <dc:language>en-US</dc:language>
  <cp:lastModifiedBy>Richard Brock</cp:lastModifiedBy>
  <cp:lastPrinted>2015-05-22T09:14:27Z</cp:lastPrinted>
  <dcterms:modified xsi:type="dcterms:W3CDTF">2015-06-08T20:25:58Z</dcterms:modified>
  <cp:revision>261</cp:revision>
  <dc:subject>Four Quartets: T.S. Eliot and Spirituality</dc:subject>
  <dc:title>Lesson 15 - Exploring the concept of wealth</dc:title>
</cp:coreProperties>
</file>