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6F2-A086-497C-A6CA-1B5D5B8F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82D-9273-4B23-96AD-AE6C7304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F44-7FC2-44D3-96BA-4F5757BF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8A2-BC41-48A4-B54C-6A5F7683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A4D-AF3D-4D85-B8FE-CB2EB830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75B-B137-4328-A85D-406AE04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E31-CC4B-45C5-8C7A-6FC15572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ACD-658F-4D9E-92AA-54F2EAD7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C63-B610-4399-9F9D-93070886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DBF-A730-4E73-9C88-5D95F78F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189-A75D-41A1-B3BF-AE08E7A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C05-B39F-4C21-BD4A-047F18B4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478A-1864-4DB9-954B-B05AF59B1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google.co.uk/url?sa=i&amp;rct=j&amp;q=&amp;esrc=s&amp;source=images&amp;cd=&amp;cad=rja&amp;uact=8&amp;ved=0CAcQjRw&amp;url=https://lifeondoverbeach.wordpress.com/2010/07/22/t-s-eliot-on-our-difficulties-of-the-moment/&amp;ei=VNDpVMf-PIKBaajTgcAH&amp;bvm=bv.86475890,d.d2s&amp;psig=AFQjCNEAjxpLPzI4x1Y492DyuJtv0gmgVQ&amp;ust=1424695758374018" TargetMode="External"/><Relationship Id="rId2" Type="http://schemas.openxmlformats.org/officeDocument/2006/relationships/hyperlink" Target="https://www.google.co.uk/imgres?imgurl=https://lifeondoverbeach.files.wordpress.com/2010/07/t-s-eliot.jpg&amp;imgrefurl=https://lifeondoverbeach.wordpress.com/2010/07/22/t-s-eliot-on-our-difficulties-of-the-moment/&amp;docid=W_SIqWHbTQH-hM&amp;tbnid=nxDLAa-fOU3DwM:&amp;w=2828&amp;h=3762&amp;ei=VNDpVOD3O9LmatfdgqgO&amp;ved=0CAIQxiAwAA&amp;iact=c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url?sa=i&amp;rct=j&amp;q=&amp;esrc=s&amp;source=images&amp;cd=&amp;cad=rja&amp;uact=8&amp;ved=0CAcQjRw&amp;url=http://florenceandthemachine.pl/wordpress/t-s-eliot-the-love-song-of-j-alfred-prufrock/?lang%3Den&amp;ei=jtDpVJ_BOITaaMmjgNAL&amp;bvm=bv.86475890,d.d2s&amp;psig=AFQjCNEAjxpLPzI4x1Y492DyuJtv0gmgVQ&amp;ust=1424695758374018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burnt+norton&amp;source=images&amp;cd=&amp;cad=rja&amp;docid=dfTJ8hHLQ3rvtM&amp;tbnid=DsRbRBoolXjb0M:&amp;ved=0CAUQjRw&amp;url=http://www.cotswolds.info/strange-things/burning-passion-plus-poet.shtml&amp;ei=c9yMUcTpLqTE0QXT8ICIBQ&amp;psig=AFQjCNFufDVwpl_UD0FMT50sfk_mN3tPBA&amp;ust=1368272320831292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carolinesandon.com/burnt-norton/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www.google.co.uk/url?sa=t&amp;rct=j&amp;q=&amp;esrc=s&amp;frm=1&amp;source=images&amp;cd=&amp;cad=rja&amp;uact=8&amp;ved=0CAQQjRw&amp;url=http://www.dailymail.co.uk/home/you/article-2330391/Burnt-Norton-The-Cotswold-house-immortalised-T-S-Eliot-poem-1935-set-famous-new-novel-based-stranger-fiction-history.html&amp;ei=sHoZU-rhEOnQ7AarhYGgCw&amp;usg=AFQjCNG-kRKbmRCslbNOQg1DixjlViGMrw&amp;sig2=7jPeUWkzaoFCmHmvaGd0mA&amp;bvm=bv.62578216,d.ZGU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source=images&amp;cd=&amp;cad=rja&amp;uact=8&amp;ved=0CAgQjRw&amp;url=http://www.thegiddings.org.uk/community/st-michaels-church-gallery/&amp;ei=DNDpVIOxDdOxaebygpAN&amp;psig=AFQjCNGXoPlwZLsiCjbYDoywPHHSTm3iwA&amp;ust=1424695692293750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East%20coker&amp;source=images&amp;cd=&amp;cad=rja&amp;uact=8&amp;ved=0CAcQjRw&amp;url=http://www.geograph.org.uk/photo/2749389&amp;ei=cVy2VMb5BY_caLCggvgM&amp;psig=AFQjCNHWXjunBtDrsFFLb0dTB7BOFawnqw&amp;ust=1421323716457215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url?sa=i&amp;rct=j&amp;q=East%20coker&amp;source=images&amp;cd=&amp;cad=rja&amp;uact=8&amp;ved=0CAcQjRw&amp;url=http://www.geograph.org.uk/photo/897123&amp;ei=lFy2VP_oAYnnapz1gfAN&amp;psig=AFQjCNHWXjunBtDrsFFLb0dTB7BOFawnqw&amp;ust=1421323716457215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.uk/url?sa=i&amp;rct=j&amp;q=East%20coker&amp;source=images&amp;cd=&amp;cad=rja&amp;uact=8&amp;ved=0CAcQjRw&amp;url=http://www.westerngazette.co.uk/Giant-estates-set-built-near-East-Coker-Upper/story-20819082-detail/story.html&amp;ei=qly2VOC-EMPjaoO8gDg&amp;psig=AFQjCNHWXjunBtDrsFFLb0dTB7BOFawnqw&amp;ust=1421323716457215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google.co.uk/url?sa=i&amp;rct=j&amp;q=East%20coker&amp;source=images&amp;cd=&amp;cad=rja&amp;uact=8&amp;ved=0CAcQjRw&amp;url=http://www.tripadvisor.co.uk/LocationPhotos-g1738752-w3-East_Coker_Somerset_England.html&amp;ei=S1y2VN_HNYixUf3sgagG&amp;psig=AFQjCNHWXjunBtDrsFFLb0dTB7BOFawnqw&amp;ust=1421323716457215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2800" y="-74772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5878440" y="115920"/>
            <a:ext cx="324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opic 1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roducing T.S. Eliot and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Four Quart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: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To give a brief background to T.S. Eliot and Four Quartets and to experience the poem before any study is underta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427640" y="231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>
            <a:hlinkClick r:id="rId1"/>
          </p:cNvPr>
          <p:cNvSpPr/>
          <p:nvPr/>
        </p:nvSpPr>
        <p:spPr>
          <a:xfrm>
            <a:off x="54000" y="-1951200"/>
            <a:ext cx="30672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s://encrypted-tbn3.gstatic.com/images?q=tbn:ANd9GcQFoKMeWnk9pYEiwV79L6Vc3VyYeG9u-sBB6IYA-g3hSX7-voO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620640"/>
            <a:ext cx="3699000" cy="491328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4"/>
          </p:cNvPr>
          <p:cNvSpPr/>
          <p:nvPr/>
        </p:nvSpPr>
        <p:spPr>
          <a:xfrm>
            <a:off x="54000" y="-846000"/>
            <a:ext cx="26002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309920" y="620640"/>
            <a:ext cx="386244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omas Stearns Eliot (1888 – 1965) was a publisher, playwright, literary critic and one of the twentieth century's major poets. He was born in St. Louis, Missouri, but settled to England in 1914, working and marry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.S. Eliot first attracted attention for his poem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Love Song of J. Alfred Prufr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15) which was followed by some of the best-known poems in the English language, including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Waste L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22) and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sh Wednesda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30). In 1948 he was awarded the Nobel Prize in Lit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323120" cy="31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6518160" y="3933720"/>
            <a:ext cx="1776600" cy="2460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403280" y="422100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Four Quarte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is a set of four poems which were published individually over a six-year period between the years 1935-45. It was Eliot’s last major po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9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Burnt Norton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a country house in Gloucestershire, which Eliot visited with his friend Emily Hale in 1934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cotswolds.info/images/strangethings/Burnt%20Norton%20Po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19840" y="1960560"/>
            <a:ext cx="3673440" cy="27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 rot="775200">
            <a:off x="7520040" y="4264200"/>
            <a:ext cx="1330200" cy="209700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1"/>
          <p:cNvSpPr/>
          <p:nvPr/>
        </p:nvSpPr>
        <p:spPr>
          <a:xfrm>
            <a:off x="1332000" y="4508640"/>
            <a:ext cx="6035760" cy="21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cent novel by Countess of Harrowby,  Lady Caroline Sandon, whose husband’s family has owned the manor house for 260 years. The novel gives an interesting retelling of a (rather tragic) episode in the house’s hist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356120" y="629460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rolinesandon.com/burnt-nort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98280" y="4950000"/>
            <a:ext cx="1143000" cy="150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s://encrypted-tbn0.gstatic.com/images?q=tbn:ANd9GcSlT2rP_istJ9xW0KT9mlpzJV08rK1A7NfZYFAkefWGyIhzxLVXJ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6960" y="1930320"/>
            <a:ext cx="41371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ittle Gidding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s a hamlet located in the Huntingdonshire, which Eliot visited in 1934. It was the home of an Anglican religious community established in 1626 by Nicholas Ferrar. Charles I visited Little Gidding three time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0.gstatic.com/images?q=tbn:ANd9GcSzTfsAkyW8bI2fGsZBsbjiH_h9jcBJUAGh_qxqS0xMoYuES17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421000"/>
            <a:ext cx="6532560" cy="36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3"/>
          <a:stretch/>
        </p:blipFill>
        <p:spPr>
          <a:xfrm>
            <a:off x="6632640" y="4788000"/>
            <a:ext cx="10731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t2.gstatic.com/images?q=tbn:ANd9GcThYmLbp5QDZfbvkFQoznoqHlk05YBlC_04nE9_SA-WJWnJWrq-:s0.geograph.org.uk/geophotos/02/74/93/2749389_4ac0b37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0400" y="250920"/>
            <a:ext cx="2178000" cy="16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t2.gstatic.com/images?q=tbn:ANd9GcT9s13ItVFZVeSkdy99ZS7wc8YgoDqQPv2x7s6rYUjNFS_gaf2vmA:s0.geograph.org.uk/photos/89/71/897123_2a26a0e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8120" y="2135160"/>
            <a:ext cx="3716280" cy="2637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t0.gstatic.com/images?q=tbn:ANd9GcQz6DUi_Detm-g2d0J_-jHAGIooLjpHl8Y1nGHazDB3n2ZWD5DIxg:www.westerngazette.co.uk/images/localworld/ugc-images/276414/Article/images/20819082/5914527-larg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0080" y="2133720"/>
            <a:ext cx="386064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430200" y="38268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ast Coke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s a Somerset village, near Yeovil. Its church is the final resting place of the ashes Eliot, whose ancestors came from the vil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t2.gstatic.com/images?q=tbn:ANd9GcRUrvacCEP7c9rzo3LX_hnPvZNDZpoGK5nmSiQamEJ06aUg6eZoIA:media-cdn.tripadvisor.com/media/photo-s/01/82/4b/59/ts-eliot-memorial-s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2492280"/>
            <a:ext cx="52768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116000" y="54936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he Dry Salvag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re a small group of rocks off the coast of Cape Ann, Massachusetts, USA, located near to the Eliot family’s summer retreat and where the young Eliot learnt to sa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39640" y="2943360"/>
            <a:ext cx="392436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25880" y="2943360"/>
            <a:ext cx="377856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.guim.co.uk/static/w-620/h--/q-95/sys-images/Guardian/Pix/pictures/2015/2/14/1423917679059/1a3b98a7-1011-41ff-883c-78e279fcdb88-620x372.jpeg"/>
          <p:cNvPicPr/>
          <p:nvPr/>
        </p:nvPicPr>
        <p:blipFill>
          <a:blip r:embed="rId3"/>
          <a:stretch/>
        </p:blipFill>
        <p:spPr>
          <a:xfrm>
            <a:off x="395280" y="333360"/>
            <a:ext cx="5905440" cy="3543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i.guim.co.uk/static/w-620/h--/q-95/sys-images/Guardian/Pix/pictures/2015/2/14/1423917114961/cf4e6018-6920-4648-a0ed-56f0a0a34220-620x372.jpeg"/>
          <p:cNvPicPr/>
          <p:nvPr/>
        </p:nvPicPr>
        <p:blipFill>
          <a:blip r:embed="rId4"/>
          <a:stretch/>
        </p:blipFill>
        <p:spPr>
          <a:xfrm>
            <a:off x="2781360" y="2793960"/>
            <a:ext cx="59054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323120" cy="313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3697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711760" y="2516040"/>
            <a:ext cx="318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ortsMillGoudy"/>
              </a:rPr>
              <a:t>Read </a:t>
            </a:r>
            <a:r>
              <a:rPr b="0" i="1" lang="en-GB" sz="1800" spc="-1" strike="noStrike">
                <a:solidFill>
                  <a:srgbClr val="000000"/>
                </a:solidFill>
                <a:latin typeface="SortsMillGoudy"/>
              </a:rPr>
              <a:t>Four</a:t>
            </a:r>
            <a:r>
              <a:rPr b="0" i="1" lang="en-GB" sz="1800" spc="-1" strike="noStrike">
                <a:solidFill>
                  <a:srgbClr val="000000"/>
                </a:solidFill>
                <a:latin typeface="SortsMillGoudy,Italic"/>
              </a:rPr>
              <a:t> Quartets </a:t>
            </a:r>
            <a:r>
              <a:rPr b="0" lang="en-GB" sz="1800" spc="-1" strike="noStrike">
                <a:solidFill>
                  <a:srgbClr val="000000"/>
                </a:solidFill>
                <a:latin typeface="SortsMillGoudy,Italic"/>
              </a:rPr>
              <a:t>together as a class. </a:t>
            </a:r>
            <a:r>
              <a:rPr b="0" lang="en-GB" sz="1800" spc="-1" strike="noStrike">
                <a:solidFill>
                  <a:srgbClr val="000000"/>
                </a:solidFill>
                <a:latin typeface="SortsMillGoudy"/>
              </a:rPr>
              <a:t>Begin with </a:t>
            </a:r>
            <a:r>
              <a:rPr b="0" i="1" lang="en-GB" sz="1800" spc="-1" strike="noStrike">
                <a:solidFill>
                  <a:srgbClr val="000000"/>
                </a:solidFill>
                <a:latin typeface="SortsMillGoudy"/>
              </a:rPr>
              <a:t>Burnt Norton</a:t>
            </a:r>
            <a:r>
              <a:rPr b="0" lang="en-GB" sz="1800" spc="-1" strike="noStrike">
                <a:solidFill>
                  <a:srgbClr val="000000"/>
                </a:solidFill>
                <a:latin typeface="SortsMillGoudy"/>
              </a:rPr>
              <a:t> and read through the five movements, stopping at each to c</a:t>
            </a:r>
            <a:r>
              <a:rPr b="0" lang="en-GB" sz="1800" spc="-1" strike="noStrike">
                <a:solidFill>
                  <a:srgbClr val="000000"/>
                </a:solidFill>
                <a:latin typeface="SortsMillGoudy,Italic"/>
              </a:rPr>
              <a:t>omment on your experience of the poem - </a:t>
            </a:r>
            <a:r>
              <a:rPr b="0" lang="en-GB" sz="1800" spc="-1" strike="noStrike">
                <a:solidFill>
                  <a:srgbClr val="000000"/>
                </a:solidFill>
                <a:latin typeface="SortsMillGoudy"/>
              </a:rPr>
              <a:t>the symbolism, language, tone and rh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Poet's Paradise"/>
          <p:cNvPicPr/>
          <p:nvPr/>
        </p:nvPicPr>
        <p:blipFill>
          <a:blip r:embed="rId1"/>
          <a:stretch/>
        </p:blipFill>
        <p:spPr>
          <a:xfrm>
            <a:off x="233280" y="333360"/>
            <a:ext cx="5283360" cy="3166920"/>
          </a:xfrm>
          <a:prstGeom prst="rect">
            <a:avLst/>
          </a:prstGeom>
          <a:ln w="0">
            <a:noFill/>
          </a:ln>
        </p:spPr>
      </p:pic>
      <p:sp>
        <p:nvSpPr>
          <p:cNvPr id="76" name="Rounded Rectangular Callout 3"/>
          <p:cNvSpPr/>
          <p:nvPr/>
        </p:nvSpPr>
        <p:spPr>
          <a:xfrm>
            <a:off x="3230640" y="317520"/>
            <a:ext cx="3456000" cy="863640"/>
          </a:xfrm>
          <a:prstGeom prst="wedgeRoundRectCallout">
            <a:avLst>
              <a:gd name="adj1" fmla="val -80726"/>
              <a:gd name="adj2" fmla="val 21435"/>
              <a:gd name="adj3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Genuine poetry can communicate before it is understood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27080" y="6119640"/>
            <a:ext cx="43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s://www.youtube.com/watch?v=Ga8tQrG4Z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257040" y="3595680"/>
            <a:ext cx="3949920" cy="2220840"/>
          </a:xfrm>
          <a:prstGeom prst="rect">
            <a:avLst/>
          </a:prstGeom>
          <a:ln w="0">
            <a:noFill/>
          </a:ln>
        </p:spPr>
      </p:pic>
      <p:sp>
        <p:nvSpPr>
          <p:cNvPr id="79" name="Left Arrow 10"/>
          <p:cNvSpPr/>
          <p:nvPr/>
        </p:nvSpPr>
        <p:spPr>
          <a:xfrm>
            <a:off x="4437000" y="4545000"/>
            <a:ext cx="4498920" cy="231300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2d2d8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might want to listen to the man himself as he read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Four Quartet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pausing after each movement to share your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3"/>
          <a:stretch/>
        </p:blipFill>
        <p:spPr>
          <a:xfrm>
            <a:off x="4395960" y="3595680"/>
            <a:ext cx="874440" cy="121284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ular Callout 12"/>
          <p:cNvSpPr/>
          <p:nvPr/>
        </p:nvSpPr>
        <p:spPr>
          <a:xfrm>
            <a:off x="5587920" y="1371600"/>
            <a:ext cx="2008440" cy="969840"/>
          </a:xfrm>
          <a:prstGeom prst="wedgeRoundRectCallout">
            <a:avLst>
              <a:gd name="adj1" fmla="val 61046"/>
              <a:gd name="adj2" fmla="val -72402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does Eliot mean by this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7816680" y="744480"/>
            <a:ext cx="1143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Topic One: Experience</cp:keywords>
  <dc:language>en-US</dc:language>
  <cp:lastModifiedBy>Richard Brock</cp:lastModifiedBy>
  <cp:lastPrinted>2015-02-04T14:05:44Z</cp:lastPrinted>
  <dcterms:modified xsi:type="dcterms:W3CDTF">2015-06-09T19:01:11Z</dcterms:modified>
  <cp:revision>149</cp:revision>
  <dc:subject>Four Quartets: T.S. Eliot and Spirituality</dc:subject>
  <dc:title>Lesson 1 - Introduction to T.S. Eliot and Four Quartets</dc:title>
</cp:coreProperties>
</file>